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8D3-6663-4CD1-A71E-02A6F7BE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E4F-9230-4695-B474-A769DC8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73A-BA30-4752-98FD-E85F9CA1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A4B-A17D-4631-8E40-1FDB46D3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AC4-A06D-4406-BC53-7123613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AA0-1718-40B0-BC78-27AE1E0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DF2-A811-4F3C-9919-1855156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9C8-8F2E-44AF-AEED-B6DCE83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67A-E713-4AB4-8FEC-555F58C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D52-45E5-46FC-AA59-5F60E06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6B2-CF42-4E7F-962E-DB60AE6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9B4-E913-4E2B-A586-97D2AF2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67DE-B827-4F95-832C-9A2BA23F50F3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280" y="119664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355560"/>
            <a:ext cx="835344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Традиционални систем издавања лекова 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у стационарној установ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cc0000"/>
                </a:solidFill>
                <a:latin typeface="Candara"/>
              </a:rPr>
              <a:t>Проф</a:t>
            </a:r>
            <a:r>
              <a:rPr b="1" lang="sr-CS" sz="3000" spc="-1" strike="noStrike">
                <a:solidFill>
                  <a:srgbClr val="cc0000"/>
                </a:solidFill>
                <a:latin typeface="Candara"/>
              </a:rPr>
              <a:t>. др Марко Фоли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дистрибуциј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лекова у бол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701360"/>
            <a:ext cx="8134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дговорни медицински/фармацеутски техничар издаје лекове из депоа особљу које ће их примењивати на пацијентима; лекове може издати само на основу захтева које је потписао ординирајући лека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 захтеву требају бити наведени име и презиме пацијента, број историје болести, дијагноза, прописани лекови, њихов облик и доз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дистрибуциј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лекова у бол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ви захтеви се архивирају и они представљају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злаз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из депоа, тј. оправдање за утрошак лекова, који се мора доставити апотец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Одговорни техничар формира и занавља количину лекова за хитна стања (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смештају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у орман који је доступан свим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езерв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лекова за хитну примену у орману обнавља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с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сваког дана, али само на основу извештаја лекара који је лекове применио (са подацима о пацијенту, дијагнозама и употребљеним лековим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дистрибуциј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лекова у бол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7712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Уколико поред кревета пацијента постоје посебни ормарићи за лекове који се могу закључавати, из депоа се, за одређеног пацијента може преузети и целокупна количина л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Преузета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количина се закључава у ормарићу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када је време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приме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њује се карактеристична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доз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лек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Ако оваквих ормарића нема, лекови се подижу з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24 часа или за викенд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Предности и ма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77120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 односу на традиоционални систем издавања лекова, Системи расподеле индивидуалне/јединичне терапије смањују број грешака у примени лекова и онемогућавају отуђивање леков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Међутим, савременији системи издавања лекова захтевају додатно ангажовање фармацеутских техничара на одељењима и добру организацију рада (веће учешће и виши учинак фармацеута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Препору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72692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истем расподеле индивидуалне/јединичне терапиј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треба увести у болнице које располажу фармацеутима и фармацеутским техничарима у довољном броју, док болнице са мало или недовољно кадра треба да се држе традиционалног система, али уз доследно спровођење свих његових елеме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3520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издавања лекова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у домовим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80840"/>
            <a:ext cx="8280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-3337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Најрационалнији систем издавања медикамена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Лекови из централне апотеке се издају на основу захтева (требовања) који подноси одговорни техничар те амбулант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лога фармацеута: прегледати требовање (контрола аутентичности и комплетности),                        а потом, уколико оно задовољава неопходне норме, издати лекове који су требован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За промет лекова у апотеци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одговор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но лице је </a:t>
            </a:r>
            <a:r>
              <a:rPr b="0" lang="sr-Latn-CS" sz="2700" spc="-1" strike="noStrike" u="sng">
                <a:solidFill>
                  <a:srgbClr val="000000"/>
                </a:solidFill>
                <a:uFillTx/>
                <a:latin typeface="Candara"/>
              </a:rPr>
              <a:t>фармацеу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Након преузмања лекова, одговорни техничар их мора држати у посебном орману, под кључем, а оне који се морају чувати на температури од 2-8</a:t>
            </a:r>
            <a:r>
              <a:rPr b="0" lang="sr-CS" sz="2800" spc="-1" strike="noStrike" baseline="30000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, у закључаном хладња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Из ормана или хладњака, лекови се издају на основу </a:t>
            </a:r>
            <a:r>
              <a:rPr b="0" lang="sr-CS" sz="2800" spc="-1" strike="noStrike">
                <a:solidFill>
                  <a:srgbClr val="ff0000"/>
                </a:solidFill>
                <a:latin typeface="Candara"/>
              </a:rPr>
              <a:t>налога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на име одговарајућег пацијента, који потписује ординирајући лек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95280" y="333360"/>
            <a:ext cx="8353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издавања лекова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у домовим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Лекови за ургентну примену 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или примену               “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на терену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Лекови за ургентну примену (нпр. антишок терапија) морају бити на дохвату особљ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не закључавају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З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анављају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на основу налога, које после хитне интервенције потписује лека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За медикамент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које лекар носи у својој торби и користи у интерв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цијам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на терену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, ван здравстевне установ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с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упак је исти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Уз сваки нови захтев за преузимање лекова из централне апотеке </a:t>
            </a:r>
            <a:r>
              <a:rPr b="0" lang="sr-CS" sz="2900" spc="-1" strike="noStrike">
                <a:solidFill>
                  <a:srgbClr val="ff0000"/>
                </a:solidFill>
                <a:latin typeface="Candara"/>
              </a:rPr>
              <a:t>мора бити приложен извештај</a:t>
            </a: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 о потрошњи предходно преузетих лекова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Извештај треба да садржи податке о пацијентима, дијагнозама и примењеним количинама леков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95280" y="333360"/>
            <a:ext cx="8353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издавања лекова у домовим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Управљање лековима у болниц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74960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прављање лековима у болници обухвата све начине на основу којих се лекови бирају, набављају, прописују, издају, примењују и контролишу са циљем да допринос лекова оздрављењу пацијента буде највећи могућ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ndara"/>
              </a:rPr>
              <a:t>Бол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Када су у питању аспекти дистрибуције лекова у болници, може се говорити 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Традиционалном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истему расподеле индивидуалне тера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истему расподеле јединичне тера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8748720" y="580392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Традиционални систем дистрибуције лекова у бол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770120"/>
            <a:ext cx="82803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У традиционалном систему постоји само централна апотека болнице, из које се снабдевају сва одељењ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На сваком одељењу постоји приручни депо лекова, који закључан држи одговорни медицински технича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Одговорни техничар формира депо лекова на основу “требовања” које мора одговарати одељењској листи леко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ndara"/>
              </a:rPr>
              <a:t>Одељењска листа леков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70172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Листа лекова одељења (одељењски формулар) је листа свих лекова које рутински користи то одељење односно листа лекова која задовољава потребе пацијената који се на том одељењу леч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ndara"/>
              </a:rPr>
              <a:t>Листу лекова одељења детаљно дискутује и усваја стручни колегијум одељењ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7:21:15Z</dcterms:created>
  <dc:creator>Marko</dc:creator>
  <dc:description/>
  <dc:language>en-US</dc:language>
  <cp:lastModifiedBy>Marko</cp:lastModifiedBy>
  <dcterms:modified xsi:type="dcterms:W3CDTF">2018-02-01T16:26:09Z</dcterms:modified>
  <cp:revision>255</cp:revision>
  <dc:subject>Klinicki farmakolog</dc:subject>
  <dc:title>Verzija za sajt fakulteta</dc:title>
</cp:coreProperties>
</file>